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FFB79-2073-418A-A3E4-7179A83E3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47197-B84F-442F-8254-32725949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73F3B-185E-41FF-8CCF-B524DB8A37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8D344-B407-43A4-9221-D0C9F1C6D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41BB8-A6D0-4B27-A867-4EC49CEEC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CF927-52DD-4485-B16C-AAC4274BB3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DFF99-34EF-450D-BA7E-6774D2840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934AC-FDB2-4DDE-A3CB-9A46C9867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AA17B-E445-4A1F-B61D-3425E4DF3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9336B-E890-48E9-80EC-1EAC10A31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BB608-50A1-470A-8951-465401445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E4A5B-8734-4B36-966A-2634C0F07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9B27D-296C-45CE-9662-244D0C586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BE461-EA2B-45F6-B213-6DABA55BE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3DA2C-845D-44E1-9644-97BE03B3F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A285CC-D0D9-40B2-81C1-1FA06A7B8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8AFA3-DBC3-4880-B6AF-7A8E00787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3D42BE-B8C1-4919-884B-E51A75789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CC8C4C-DF3F-4C70-BAD4-B70FCE8CE9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F3305-E00E-46D5-8E2E-982DA097AD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B2060-FDE9-4577-A4DA-21277EF2C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72DEF7-044C-4A9D-842B-1AEE001272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D9772-4D81-48D5-9E76-18B212C95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5ECA7-2A11-409E-A8DB-C22F3AC95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76653-4485-48D1-A4A8-5406D3536E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6EEFF-6DF7-46B9-A463-1E77D65A0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09A55A-090F-41E7-881D-14D347872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23639-FD54-48F3-8AAF-8F1CFF37CC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66FF72-340F-477C-8FD6-C01E15C7D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915A87-A406-462F-9100-54E77173AE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965D01B-A385-489F-86C3-B066D83282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4500EC-4AAB-4482-AD15-CD355C8A1F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B8690-6AB3-4EBF-B7D6-E563F48DAD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6576F-2853-4BCA-89A7-4CD236698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02558-58E3-481C-AC8B-311B6D900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F6EC1-3482-4848-9513-EAFBF3580B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65EF9-F54F-49C0-A87F-69E29945B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22CE7-5047-4CE1-8FF5-8D77EA3147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817FF1-AE27-42D1-A8A5-D2A7984744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20E684-137A-4657-B491-0F36A56CD7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C32B56-DAFF-43DA-BB22-AEBD4C89F1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742A5D-0D49-4933-B61A-85202BBDBF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57995E-1F90-4FD8-A740-E230804F48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6DCCD-520F-4C7E-AC80-E45038742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3819C-15F8-4D02-92FE-C5B6AF9E4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37930-823D-4828-A0AA-B283AFE78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7B776-3B23-4354-BC65-1625342BD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8C895-08E2-4197-9615-BDDB2FF44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69F4C-E905-4F7D-B776-4B86348EB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9175-587D-4CDA-ABB1-207CE376E4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00052-D8C4-4C9F-9508-2638A78FE9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BD3E-4051-4BC0-9618-46B9A47510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218960"/>
            <a:ext cx="70102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2060"/>
                </a:solidFill>
                <a:latin typeface="Century Gothic"/>
              </a:rPr>
              <a:t>UNIT PLAN</a:t>
            </a:r>
            <a:r>
              <a:rPr b="0" lang="en-US" sz="9600" spc="-1" strike="noStrike">
                <a:solidFill>
                  <a:srgbClr val="002060"/>
                </a:solidFill>
                <a:latin typeface="Arial"/>
              </a:rPr>
              <a:t> </a:t>
            </a:r>
            <a:endParaRPr b="0" lang="en-US" sz="9600" spc="-1" strike="noStrike">
              <a:solidFill>
                <a:srgbClr val="ffffff"/>
              </a:solidFill>
              <a:latin typeface="Arial"/>
            </a:endParaRPr>
          </a:p>
        </p:txBody>
      </p:sp>
      <p:sp>
        <p:nvSpPr>
          <p:cNvPr id="167" name="PlaceHolder 2"/>
          <p:cNvSpPr>
            <a:spLocks noGrp="1"/>
          </p:cNvSpPr>
          <p:nvPr>
            <p:ph type="subTitle"/>
          </p:nvPr>
        </p:nvSpPr>
        <p:spPr>
          <a:xfrm>
            <a:off x="1752480" y="3429000"/>
            <a:ext cx="5639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LANE COORDINATE GEOMETRY</a:t>
            </a:r>
            <a:endParaRPr b="0" lang="en-US" sz="32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6840" y="456840"/>
            <a:ext cx="8226360" cy="5668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Curlz MT"/>
              </a:rPr>
              <a:t>GODBLESS US!</a:t>
            </a:r>
            <a:endParaRPr b="0" lang="en-US" sz="6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REPARED B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Bernante, Maria Rosario 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Macabobod, Margareth H.</a:t>
            </a:r>
            <a:endParaRPr b="0" lang="en-US" sz="32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151920"/>
            <a:ext cx="74599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UNIT PLAN SUMMARY</a:t>
            </a:r>
            <a:endParaRPr b="0" lang="en-US" sz="3200" spc="-1" strike="noStrike">
              <a:solidFill>
                <a:srgbClr val="ffffff"/>
              </a:solidFill>
              <a:latin typeface="Arial"/>
            </a:endParaRPr>
          </a:p>
        </p:txBody>
      </p:sp>
      <p:sp>
        <p:nvSpPr>
          <p:cNvPr id="169" name="PlaceHolder 2"/>
          <p:cNvSpPr>
            <a:spLocks noGrp="1"/>
          </p:cNvSpPr>
          <p:nvPr>
            <p:ph/>
          </p:nvPr>
        </p:nvSpPr>
        <p:spPr>
          <a:xfrm>
            <a:off x="685440" y="1294920"/>
            <a:ext cx="7924680" cy="5410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very discipline has its own language. In mathematics, laws and properties of the number system are being studied. Geometry is just one of the major branches of mathematics which deals with shapes and sizes. Every term used should be clearly defined. Every mathematical statement needs to be proved before accepting their validity. Every problem presented has its own solution. Every topic should be connected to the real world. Plane Coordinate Geometry deals with the practical applications to life. </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ESSENTIAL QUESTION</a:t>
            </a:r>
            <a:endParaRPr b="0" lang="en-US" sz="4000" spc="-1" strike="noStrike">
              <a:solidFill>
                <a:srgbClr val="ffffff"/>
              </a:solidFill>
              <a:latin typeface="Arial"/>
            </a:endParaRPr>
          </a:p>
        </p:txBody>
      </p:sp>
      <p:pic>
        <p:nvPicPr>
          <p:cNvPr id="171" name="Picture 7" descr="186_example"/>
          <p:cNvPicPr/>
          <p:nvPr/>
        </p:nvPicPr>
        <p:blipFill>
          <a:blip r:embed="rId2"/>
          <a:stretch/>
        </p:blipFill>
        <p:spPr>
          <a:xfrm>
            <a:off x="1219320" y="1676520"/>
            <a:ext cx="6858000" cy="4267080"/>
          </a:xfrm>
          <a:prstGeom prst="rect">
            <a:avLst/>
          </a:prstGeom>
          <a:ln w="0">
            <a:noFill/>
          </a:ln>
        </p:spPr>
      </p:pic>
      <p:sp>
        <p:nvSpPr>
          <p:cNvPr id="172" name="Text Box 8"/>
          <p:cNvSpPr/>
          <p:nvPr/>
        </p:nvSpPr>
        <p:spPr>
          <a:xfrm>
            <a:off x="1295280" y="22860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are the effects of changes?</a:t>
            </a: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454960" cy="2590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UNIT QUESTIONS</a:t>
            </a:r>
            <a:br>
              <a:rPr sz="4400"/>
            </a:br>
            <a:br>
              <a:rPr sz="3000"/>
            </a:br>
            <a:r>
              <a:rPr b="0" lang="en-US" sz="3000" spc="-1" strike="noStrike">
                <a:solidFill>
                  <a:srgbClr val="002060"/>
                </a:solidFill>
                <a:latin typeface="Arial"/>
              </a:rPr>
              <a:t>    * How important is Plane Coordinate  </a:t>
            </a:r>
            <a:r>
              <a:rPr b="0" lang="en-US" sz="3000" spc="-1" strike="noStrike">
                <a:solidFill>
                  <a:srgbClr val="002060"/>
                </a:solidFill>
                <a:latin typeface="Arial"/>
              </a:rPr>
              <a:t>	</a:t>
            </a:r>
            <a:r>
              <a:rPr b="0" lang="en-US" sz="3000" spc="-1" strike="noStrike">
                <a:solidFill>
                  <a:srgbClr val="002060"/>
                </a:solidFill>
                <a:latin typeface="Arial"/>
              </a:rPr>
              <a:t>Geometry?</a:t>
            </a:r>
            <a:br>
              <a:rPr sz="3000"/>
            </a:br>
            <a:r>
              <a:rPr b="0" lang="en-US" sz="3000" spc="-1" strike="noStrike">
                <a:solidFill>
                  <a:srgbClr val="002060"/>
                </a:solidFill>
                <a:latin typeface="Arial"/>
              </a:rPr>
              <a:t>    * How is it used in the real life situations?</a:t>
            </a:r>
            <a:endParaRPr b="0" lang="en-US" sz="3000" spc="-1" strike="noStrike">
              <a:solidFill>
                <a:srgbClr val="ffffff"/>
              </a:solidFill>
              <a:latin typeface="Arial"/>
            </a:endParaRPr>
          </a:p>
        </p:txBody>
      </p:sp>
      <p:sp>
        <p:nvSpPr>
          <p:cNvPr id="174" name="PlaceHolder 2"/>
          <p:cNvSpPr>
            <a:spLocks noGrp="1"/>
          </p:cNvSpPr>
          <p:nvPr>
            <p:ph/>
          </p:nvPr>
        </p:nvSpPr>
        <p:spPr>
          <a:xfrm>
            <a:off x="456840" y="3352320"/>
            <a:ext cx="8226360" cy="31244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CONTENT QUESTIONS</a:t>
            </a:r>
            <a:endParaRPr b="0" lang="en-US" sz="4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800" spc="-1" strike="noStrike">
                <a:solidFill>
                  <a:srgbClr val="002060"/>
                </a:solidFill>
                <a:latin typeface="Arial"/>
              </a:rPr>
              <a:t>* How can we graph a Linear Equ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What are parallel and perpendicular lin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How are distance and midpoint formula derived and used?</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80520"/>
            <a:ext cx="7391520" cy="1554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enefits of Using Project Approaches, Ongoing Assessment, and CFQs in My Unit</a:t>
            </a:r>
            <a:endParaRPr b="0" lang="en-US" sz="3200" spc="-1" strike="noStrike">
              <a:solidFill>
                <a:srgbClr val="ffffff"/>
              </a:solidFill>
              <a:latin typeface="Arial"/>
            </a:endParaRPr>
          </a:p>
        </p:txBody>
      </p:sp>
      <p:sp>
        <p:nvSpPr>
          <p:cNvPr id="176" name="PlaceHolder 2"/>
          <p:cNvSpPr>
            <a:spLocks noGrp="1"/>
          </p:cNvSpPr>
          <p:nvPr>
            <p:ph/>
          </p:nvPr>
        </p:nvSpPr>
        <p:spPr>
          <a:xfrm>
            <a:off x="609120" y="2133720"/>
            <a:ext cx="7696440" cy="449568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use their learning in Plane Coordinate Geometry in creating a video present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develop teamwork or collaboration among their fellow classmat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enhance their critical thinking and creativity as they go through the projec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critique and receive feedback from us and their classmates </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533160"/>
            <a:ext cx="6933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y Using Project Approaches,  </a:t>
            </a:r>
            <a:br>
              <a:rPr sz="3200"/>
            </a:br>
            <a:r>
              <a:rPr b="1" lang="en-US" sz="3200" spc="-1" strike="noStrike">
                <a:solidFill>
                  <a:srgbClr val="002060"/>
                </a:solidFill>
                <a:latin typeface="Berlin Sans FB Demi"/>
              </a:rPr>
              <a:t>Ongoing Assessment, and CFQs</a:t>
            </a:r>
            <a:endParaRPr b="0" lang="en-US" sz="3200" spc="-1" strike="noStrike">
              <a:solidFill>
                <a:srgbClr val="ffffff"/>
              </a:solidFill>
              <a:latin typeface="Arial"/>
            </a:endParaRPr>
          </a:p>
        </p:txBody>
      </p:sp>
      <p:sp>
        <p:nvSpPr>
          <p:cNvPr id="178" name="PlaceHolder 2"/>
          <p:cNvSpPr>
            <a:spLocks noGrp="1"/>
          </p:cNvSpPr>
          <p:nvPr>
            <p:ph/>
          </p:nvPr>
        </p:nvSpPr>
        <p:spPr>
          <a:xfrm>
            <a:off x="609120" y="1905120"/>
            <a:ext cx="830124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ur students will :</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engage in the whole learning proces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evelop analytical thinking and interest in the subject through their projec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responsible and can monitor their perform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04560"/>
            <a:ext cx="67071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0" name="PlaceHolder 2"/>
          <p:cNvSpPr>
            <a:spLocks noGrp="1"/>
          </p:cNvSpPr>
          <p:nvPr>
            <p:ph/>
          </p:nvPr>
        </p:nvSpPr>
        <p:spPr>
          <a:xfrm>
            <a:off x="609480" y="1447920"/>
            <a:ext cx="7772400" cy="4830480"/>
          </a:xfrm>
          <a:prstGeom prst="rect">
            <a:avLst/>
          </a:prstGeom>
          <a:noFill/>
          <a:ln w="0">
            <a:noFill/>
          </a:ln>
        </p:spPr>
        <p:txBody>
          <a:bodyPr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We will use our Essential and Unit Questions to:</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Listen to student’s insight about the big idea of Plane Coordinate Geometry</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Collect the Higher Order Thinking and 21st Century Skills that the students have by:</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coming up with a video presentation of </a:t>
            </a:r>
            <a:r>
              <a:rPr b="0" lang="en-US" sz="2500" spc="-1" strike="noStrike">
                <a:solidFill>
                  <a:srgbClr val="002060"/>
                </a:solidFill>
                <a:latin typeface="Arial"/>
              </a:rPr>
              <a:t>	</a:t>
            </a:r>
            <a:r>
              <a:rPr b="0" lang="en-US" sz="2500" spc="-1" strike="noStrike">
                <a:solidFill>
                  <a:srgbClr val="002060"/>
                </a:solidFill>
                <a:latin typeface="Arial"/>
              </a:rPr>
              <a:t>the learning they have from the Plane </a:t>
            </a:r>
            <a:r>
              <a:rPr b="0" lang="en-US" sz="2500" spc="-1" strike="noStrike">
                <a:solidFill>
                  <a:srgbClr val="002060"/>
                </a:solidFill>
                <a:latin typeface="Arial"/>
              </a:rPr>
              <a:t>	</a:t>
            </a:r>
            <a:r>
              <a:rPr b="0" lang="en-US" sz="2500" spc="-1" strike="noStrike">
                <a:solidFill>
                  <a:srgbClr val="002060"/>
                </a:solidFill>
                <a:latin typeface="Arial"/>
              </a:rPr>
              <a:t>Coordinate Geometry unit in connection to </a:t>
            </a:r>
            <a:r>
              <a:rPr b="0" lang="en-US" sz="2500" spc="-1" strike="noStrike">
                <a:solidFill>
                  <a:srgbClr val="002060"/>
                </a:solidFill>
                <a:latin typeface="Arial"/>
              </a:rPr>
              <a:t>	</a:t>
            </a:r>
            <a:r>
              <a:rPr b="0" lang="en-US" sz="2500" spc="-1" strike="noStrike">
                <a:solidFill>
                  <a:srgbClr val="002060"/>
                </a:solidFill>
                <a:latin typeface="Arial"/>
              </a:rPr>
              <a:t>real life situation</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answering individual and group activities </a:t>
            </a:r>
            <a:r>
              <a:rPr b="0" lang="en-US" sz="2500" spc="-1" strike="noStrike">
                <a:solidFill>
                  <a:srgbClr val="002060"/>
                </a:solidFill>
                <a:latin typeface="Arial"/>
              </a:rPr>
              <a:t>	</a:t>
            </a:r>
            <a:r>
              <a:rPr b="0" lang="en-US" sz="2500" spc="-1" strike="noStrike">
                <a:solidFill>
                  <a:srgbClr val="002060"/>
                </a:solidFill>
                <a:latin typeface="Arial"/>
              </a:rPr>
              <a:t>or quizzes</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51920"/>
            <a:ext cx="739296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2" name=""/>
          <p:cNvSpPr txBox="1"/>
          <p:nvPr/>
        </p:nvSpPr>
        <p:spPr>
          <a:xfrm>
            <a:off x="456840" y="1600200"/>
            <a:ext cx="8458200" cy="4572000"/>
          </a:xfrm>
          <a:prstGeom prst="rect">
            <a:avLst/>
          </a:prstGeom>
          <a:noFill/>
          <a:ln w="0">
            <a:noFill/>
          </a:ln>
        </p:spPr>
        <p:txBody>
          <a:bodyPr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we lear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how much they have develop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ffectiveness of our strategies, projects or activities</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our students gai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nhancement of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realization on the connection of the unit topic to real life situation</a:t>
            </a:r>
            <a:endParaRPr b="0" lang="en-US" sz="28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60"/>
            <a:ext cx="8226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OUR GOALS</a:t>
            </a:r>
            <a:endParaRPr b="0" lang="en-US" sz="4000" spc="-1" strike="noStrike">
              <a:solidFill>
                <a:srgbClr val="ffffff"/>
              </a:solidFill>
              <a:latin typeface="Arial"/>
            </a:endParaRPr>
          </a:p>
        </p:txBody>
      </p:sp>
      <p:sp>
        <p:nvSpPr>
          <p:cNvPr id="184" name=""/>
          <p:cNvSpPr txBox="1"/>
          <p:nvPr/>
        </p:nvSpPr>
        <p:spPr>
          <a:xfrm>
            <a:off x="455400" y="1218960"/>
            <a:ext cx="8226360" cy="4647960"/>
          </a:xfrm>
          <a:prstGeom prst="rect">
            <a:avLst/>
          </a:prstGeom>
          <a:noFill/>
          <a:ln w="0">
            <a:noFill/>
          </a:ln>
        </p:spPr>
        <p:txBody>
          <a:bodyPr anchor="t">
            <a:normAutofit fontScale="97000"/>
          </a:bodyPr>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iscover and integrate technology in the lesson so that students will be more engaged and motivated</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techniques or strategies to develop their critical thinking and interest in the subject</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out other projects which are relevant and appealing to students</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ake the students realized that there is a big idea behind each topic.</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onitor the student’s performance by having consultation or giving remedial classes </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1:17:17Z</dcterms:created>
  <dc:creator>ictlab</dc:creator>
  <dc:description/>
  <dc:language>en-US</dc:language>
  <cp:lastModifiedBy>ictlab</cp:lastModifiedBy>
  <dcterms:modified xsi:type="dcterms:W3CDTF">2010-09-05T11:37:51Z</dcterms:modified>
  <cp:revision>17</cp:revision>
  <dc:subject/>
  <dc:title>UNIT PLAN </dc:title>
</cp:coreProperties>
</file>